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8D0A-3591-4468-B832-C2BF63E3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1D88-7319-430D-BD8D-35466BFD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A8CC-1E42-451B-A179-71FB9F59D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1FF6-34C5-499C-9FB8-1C309C5F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3A74-D609-4208-858D-2A8E68DC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1060-ABA8-4A03-B866-77D2EA6A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1EFF-63FB-4769-A33F-ABC2C34E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FF92-030D-4437-9DF4-2B43CDF4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A466-FF2A-415D-BDB0-C60696C5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ECF6-F159-4399-8E6B-2382C5DD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1637-9C3F-41A0-BC11-7B7A2CDD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9602-9F80-47EA-8DBF-97A96734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102A-139B-4056-B2D6-79754E0CD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1482" t="2052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Monotype Corsiva"/>
              </a:rPr>
              <a:t>Ride the New 25-M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Monotype Corsiva"/>
              </a:rPr>
              <a:t>Mountain Bike Tr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Monotype Corsiva"/>
              </a:rPr>
              <a:t>Veterans P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914400"/>
            <a:ext cx="7391520" cy="24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492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Edwardian Script ITC"/>
              </a:rPr>
              <a:t>i Come Play in the Dirt!</a:t>
            </a:r>
            <a:endParaRPr b="1" lang="en-US" sz="6000" spc="1" strike="noStrike">
              <a:ln w="3492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Edwardian Script ITC"/>
              <a:ea typeface="Edwardian Script ITC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048120"/>
            <a:ext cx="3048120" cy="2361960"/>
          </a:xfrm>
          <a:prstGeom prst="irregularSeal2">
            <a:avLst/>
          </a:prstGeom>
          <a:gradFill rotWithShape="0">
            <a:gsLst>
              <a:gs pos="0">
                <a:srgbClr val="ff0000"/>
              </a:gs>
              <a:gs pos="50000">
                <a:srgbClr val="33cc33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8900000">
            <a:off x="381600" y="39618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w Open 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46280" y="4379760"/>
            <a:ext cx="153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7391520" y="5181480"/>
            <a:ext cx="1218960" cy="1371600"/>
          </a:xfrm>
          <a:custGeom>
            <a:avLst/>
            <a:gdLst>
              <a:gd name="textAreaLeft" fmla="*/ 78840 w 1218960"/>
              <a:gd name="textAreaRight" fmla="*/ 1140120 w 1218960"/>
              <a:gd name="textAreaTop" fmla="*/ 78840 h 1371600"/>
              <a:gd name="textAreaBottom" fmla="*/ 1292760 h 1371600"/>
            </a:gdLst>
            <a:ahLst/>
            <a:rect l="textAreaLeft" t="textAreaTop" r="textAreaRight" b="textAreaBottom"/>
            <a:pathLst>
              <a:path w="21600" h="24304">
                <a:moveTo>
                  <a:pt x="0" y="0"/>
                </a:moveTo>
                <a:lnTo>
                  <a:pt x="21600" y="0"/>
                </a:lnTo>
                <a:lnTo>
                  <a:pt x="21600" y="24304"/>
                </a:lnTo>
                <a:lnTo>
                  <a:pt x="0" y="24304"/>
                </a:lnTo>
                <a:close/>
              </a:path>
              <a:path fill="lightenLess" w="21600" h="243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4">
                <a:moveTo>
                  <a:pt x="21600" y="0"/>
                </a:moveTo>
                <a:lnTo>
                  <a:pt x="21600" y="24304"/>
                </a:lnTo>
                <a:lnTo>
                  <a:pt x="20200" y="22904"/>
                </a:lnTo>
                <a:lnTo>
                  <a:pt x="20200" y="1400"/>
                </a:lnTo>
                <a:close/>
              </a:path>
              <a:path fill="darkenLess" w="21600" h="24304">
                <a:moveTo>
                  <a:pt x="21600" y="24304"/>
                </a:moveTo>
                <a:lnTo>
                  <a:pt x="0" y="24304"/>
                </a:lnTo>
                <a:lnTo>
                  <a:pt x="1400" y="22904"/>
                </a:lnTo>
                <a:lnTo>
                  <a:pt x="20200" y="22904"/>
                </a:lnTo>
                <a:close/>
              </a:path>
              <a:path fill="lighten" w="21600" h="24304">
                <a:moveTo>
                  <a:pt x="0" y="243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4"/>
                </a:lnTo>
                <a:close/>
              </a:path>
              <a:path fill="darken" w="21600" h="24304">
                <a:moveTo>
                  <a:pt x="3794" y="5146"/>
                </a:moveTo>
                <a:lnTo>
                  <a:pt x="17806" y="12152"/>
                </a:lnTo>
                <a:lnTo>
                  <a:pt x="3794" y="1915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7391520" y="5181480"/>
            <a:ext cx="1218960" cy="1371600"/>
          </a:xfrm>
          <a:custGeom>
            <a:avLst/>
            <a:gdLst>
              <a:gd name="textAreaLeft" fmla="*/ 110880 w 1218960"/>
              <a:gd name="textAreaRight" fmla="*/ 1108080 w 1218960"/>
              <a:gd name="textAreaTop" fmla="*/ 110880 h 1371600"/>
              <a:gd name="textAreaBottom" fmla="*/ 1260720 h 1371600"/>
            </a:gdLst>
            <a:ahLst/>
            <a:rect l="textAreaLeft" t="textAreaTop" r="textAreaRight" b="textAreaBottom"/>
            <a:pathLst>
              <a:path w="21600" h="24304">
                <a:moveTo>
                  <a:pt x="0" y="0"/>
                </a:moveTo>
                <a:lnTo>
                  <a:pt x="21600" y="0"/>
                </a:lnTo>
                <a:lnTo>
                  <a:pt x="21600" y="24304"/>
                </a:lnTo>
                <a:lnTo>
                  <a:pt x="0" y="24304"/>
                </a:lnTo>
                <a:close/>
              </a:path>
              <a:path fill="lightenLess" w="21600" h="24304">
                <a:moveTo>
                  <a:pt x="0" y="0"/>
                </a:moveTo>
                <a:lnTo>
                  <a:pt x="21600" y="0"/>
                </a:lnTo>
                <a:lnTo>
                  <a:pt x="19631" y="1969"/>
                </a:lnTo>
                <a:lnTo>
                  <a:pt x="1969" y="1969"/>
                </a:lnTo>
                <a:close/>
              </a:path>
              <a:path fill="darken" w="21600" h="24304">
                <a:moveTo>
                  <a:pt x="21600" y="0"/>
                </a:moveTo>
                <a:lnTo>
                  <a:pt x="21600" y="24304"/>
                </a:lnTo>
                <a:lnTo>
                  <a:pt x="19631" y="22335"/>
                </a:lnTo>
                <a:lnTo>
                  <a:pt x="19631" y="1969"/>
                </a:lnTo>
                <a:close/>
              </a:path>
              <a:path fill="darkenLess" w="21600" h="24304">
                <a:moveTo>
                  <a:pt x="21600" y="24304"/>
                </a:moveTo>
                <a:lnTo>
                  <a:pt x="0" y="24304"/>
                </a:lnTo>
                <a:lnTo>
                  <a:pt x="1969" y="22335"/>
                </a:lnTo>
                <a:lnTo>
                  <a:pt x="19631" y="22335"/>
                </a:lnTo>
                <a:close/>
              </a:path>
              <a:path fill="lighten" w="21600" h="24304">
                <a:moveTo>
                  <a:pt x="0" y="24304"/>
                </a:moveTo>
                <a:lnTo>
                  <a:pt x="0" y="0"/>
                </a:lnTo>
                <a:lnTo>
                  <a:pt x="1969" y="1969"/>
                </a:lnTo>
                <a:lnTo>
                  <a:pt x="1969" y="22335"/>
                </a:lnTo>
                <a:close/>
              </a:path>
              <a:path fill="darken" w="21600" h="24304">
                <a:moveTo>
                  <a:pt x="4218" y="5570"/>
                </a:moveTo>
                <a:lnTo>
                  <a:pt x="17382" y="12152"/>
                </a:lnTo>
                <a:lnTo>
                  <a:pt x="4218" y="187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38080" y="324000"/>
            <a:ext cx="6534360" cy="90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tally Rad Dude!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5000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343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rot="20095800">
            <a:off x="0" y="0"/>
            <a:ext cx="1905120" cy="16765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0" y="0"/>
            <a:ext cx="2286000" cy="19051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828800"/>
            <a:ext cx="1752480" cy="1066680"/>
          </a:xfrm>
          <a:prstGeom prst="wedgeEllipseCallout">
            <a:avLst>
              <a:gd name="adj1" fmla="val 70291"/>
              <a:gd name="adj2" fmla="val 870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1905120"/>
            <a:ext cx="2133720" cy="8380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905120"/>
            <a:ext cx="196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ush Script Std"/>
              </a:rPr>
              <a:t>This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ush Script Std"/>
              </a:rPr>
              <a:t>Ridiculous 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93160" y="205740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ush Script Std"/>
              </a:rPr>
              <a:t>No it’s not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838080" y="5105520"/>
            <a:ext cx="1219320" cy="137160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371600"/>
              <a:gd name="textAreaBottom" fmla="*/ 1292760 h 1371600"/>
            </a:gdLst>
            <a:ahLst/>
            <a:rect l="textAreaLeft" t="textAreaTop" r="textAreaRight" b="textAreaBottom"/>
            <a:pathLst>
              <a:path w="21600" h="24297">
                <a:moveTo>
                  <a:pt x="0" y="0"/>
                </a:moveTo>
                <a:lnTo>
                  <a:pt x="21600" y="0"/>
                </a:lnTo>
                <a:lnTo>
                  <a:pt x="21600" y="24297"/>
                </a:lnTo>
                <a:lnTo>
                  <a:pt x="0" y="24297"/>
                </a:lnTo>
                <a:close/>
              </a:path>
              <a:path fill="lightenLess" w="21600" h="242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97">
                <a:moveTo>
                  <a:pt x="21600" y="0"/>
                </a:moveTo>
                <a:lnTo>
                  <a:pt x="21600" y="24297"/>
                </a:lnTo>
                <a:lnTo>
                  <a:pt x="20200" y="22897"/>
                </a:lnTo>
                <a:lnTo>
                  <a:pt x="20200" y="1400"/>
                </a:lnTo>
                <a:close/>
              </a:path>
              <a:path fill="darkenLess" w="21600" h="24297">
                <a:moveTo>
                  <a:pt x="21600" y="24297"/>
                </a:moveTo>
                <a:lnTo>
                  <a:pt x="0" y="24297"/>
                </a:lnTo>
                <a:lnTo>
                  <a:pt x="1400" y="22897"/>
                </a:lnTo>
                <a:lnTo>
                  <a:pt x="20200" y="22897"/>
                </a:lnTo>
                <a:close/>
              </a:path>
              <a:path fill="lighten" w="21600" h="24297">
                <a:moveTo>
                  <a:pt x="0" y="242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97"/>
                </a:lnTo>
                <a:close/>
              </a:path>
              <a:path fill="darken" w="21600" h="24297">
                <a:moveTo>
                  <a:pt x="3794" y="5142"/>
                </a:moveTo>
                <a:lnTo>
                  <a:pt x="17806" y="12148"/>
                </a:lnTo>
                <a:lnTo>
                  <a:pt x="3794" y="19155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88920">
            <a:solidFill>
              <a:srgbClr val="0000ff"/>
            </a:solidFill>
            <a:miter/>
          </a:ln>
        </p:spPr>
      </p:pic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4114800" y="5486400"/>
            <a:ext cx="1219320" cy="1371600"/>
          </a:xfrm>
          <a:custGeom>
            <a:avLst/>
            <a:gdLst>
              <a:gd name="textAreaLeft" fmla="*/ 78840 w 1219320"/>
              <a:gd name="textAreaRight" fmla="*/ 1140480 w 1219320"/>
              <a:gd name="textAreaTop" fmla="*/ 78840 h 1371600"/>
              <a:gd name="textAreaBottom" fmla="*/ 1292760 h 1371600"/>
            </a:gdLst>
            <a:ahLst/>
            <a:rect l="textAreaLeft" t="textAreaTop" r="textAreaRight" b="textAreaBottom"/>
            <a:pathLst>
              <a:path w="21600" h="24297">
                <a:moveTo>
                  <a:pt x="0" y="0"/>
                </a:moveTo>
                <a:lnTo>
                  <a:pt x="21600" y="0"/>
                </a:lnTo>
                <a:lnTo>
                  <a:pt x="21600" y="24297"/>
                </a:lnTo>
                <a:lnTo>
                  <a:pt x="0" y="24297"/>
                </a:lnTo>
                <a:close/>
              </a:path>
              <a:path fill="lightenLess" w="21600" h="242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97">
                <a:moveTo>
                  <a:pt x="21600" y="0"/>
                </a:moveTo>
                <a:lnTo>
                  <a:pt x="21600" y="24297"/>
                </a:lnTo>
                <a:lnTo>
                  <a:pt x="20200" y="22897"/>
                </a:lnTo>
                <a:lnTo>
                  <a:pt x="20200" y="1400"/>
                </a:lnTo>
                <a:close/>
              </a:path>
              <a:path fill="darkenLess" w="21600" h="24297">
                <a:moveTo>
                  <a:pt x="21600" y="24297"/>
                </a:moveTo>
                <a:lnTo>
                  <a:pt x="0" y="24297"/>
                </a:lnTo>
                <a:lnTo>
                  <a:pt x="1400" y="22897"/>
                </a:lnTo>
                <a:lnTo>
                  <a:pt x="20200" y="22897"/>
                </a:lnTo>
                <a:close/>
              </a:path>
              <a:path fill="lighten" w="21600" h="24297">
                <a:moveTo>
                  <a:pt x="0" y="242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97"/>
                </a:lnTo>
                <a:close/>
              </a:path>
              <a:path fill="darken" w="21600" h="24297">
                <a:moveTo>
                  <a:pt x="3794" y="5142"/>
                </a:moveTo>
                <a:lnTo>
                  <a:pt x="17806" y="12148"/>
                </a:lnTo>
                <a:lnTo>
                  <a:pt x="3794" y="19155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533520"/>
            <a:ext cx="2667240" cy="2590560"/>
          </a:xfrm>
          <a:prstGeom prst="star5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ush Script Std"/>
              </a:rPr>
              <a:t>Ama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ush Script Std"/>
              </a:rPr>
              <a:t>View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cc0099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2217" t="0" r="0" b="2317"/>
          <a:stretch/>
        </p:blipFill>
        <p:spPr>
          <a:xfrm>
            <a:off x="1371600" y="838080"/>
            <a:ext cx="6705720" cy="5029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flipV="1">
            <a:off x="990720" y="304560"/>
            <a:ext cx="2057400" cy="2438280"/>
          </a:xfrm>
          <a:prstGeom prst="line">
            <a:avLst/>
          </a:prstGeom>
          <a:ln w="19368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248520" y="3809880"/>
            <a:ext cx="2361960" cy="2438640"/>
          </a:xfrm>
          <a:prstGeom prst="line">
            <a:avLst/>
          </a:prstGeom>
          <a:ln w="181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304920" y="5257800"/>
            <a:ext cx="1218960" cy="1371600"/>
          </a:xfrm>
          <a:custGeom>
            <a:avLst/>
            <a:gdLst>
              <a:gd name="textAreaLeft" fmla="*/ 78840 w 1218960"/>
              <a:gd name="textAreaRight" fmla="*/ 1140120 w 1218960"/>
              <a:gd name="textAreaTop" fmla="*/ 78840 h 1371600"/>
              <a:gd name="textAreaBottom" fmla="*/ 1292760 h 1371600"/>
            </a:gdLst>
            <a:ahLst/>
            <a:rect l="textAreaLeft" t="textAreaTop" r="textAreaRight" b="textAreaBottom"/>
            <a:pathLst>
              <a:path w="21600" h="24304">
                <a:moveTo>
                  <a:pt x="0" y="0"/>
                </a:moveTo>
                <a:lnTo>
                  <a:pt x="21600" y="0"/>
                </a:lnTo>
                <a:lnTo>
                  <a:pt x="21600" y="24304"/>
                </a:lnTo>
                <a:lnTo>
                  <a:pt x="0" y="24304"/>
                </a:lnTo>
                <a:close/>
              </a:path>
              <a:path fill="lightenLess" w="21600" h="243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4">
                <a:moveTo>
                  <a:pt x="21600" y="0"/>
                </a:moveTo>
                <a:lnTo>
                  <a:pt x="21600" y="24304"/>
                </a:lnTo>
                <a:lnTo>
                  <a:pt x="20200" y="22904"/>
                </a:lnTo>
                <a:lnTo>
                  <a:pt x="20200" y="1400"/>
                </a:lnTo>
                <a:close/>
              </a:path>
              <a:path fill="darkenLess" w="21600" h="24304">
                <a:moveTo>
                  <a:pt x="21600" y="24304"/>
                </a:moveTo>
                <a:lnTo>
                  <a:pt x="0" y="24304"/>
                </a:lnTo>
                <a:lnTo>
                  <a:pt x="1400" y="22904"/>
                </a:lnTo>
                <a:lnTo>
                  <a:pt x="20200" y="22904"/>
                </a:lnTo>
                <a:close/>
              </a:path>
              <a:path fill="lighten" w="21600" h="24304">
                <a:moveTo>
                  <a:pt x="0" y="243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4"/>
                </a:lnTo>
                <a:close/>
              </a:path>
              <a:path fill="darken" w="21600" h="24304">
                <a:moveTo>
                  <a:pt x="3794" y="5146"/>
                </a:moveTo>
                <a:lnTo>
                  <a:pt x="17806" y="12152"/>
                </a:lnTo>
                <a:lnTo>
                  <a:pt x="3794" y="19158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495680" y="0"/>
            <a:ext cx="76320" cy="6858000"/>
          </a:xfrm>
          <a:prstGeom prst="line">
            <a:avLst/>
          </a:prstGeom>
          <a:ln w="295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95680" y="0"/>
            <a:ext cx="2057400" cy="1523880"/>
          </a:xfrm>
          <a:prstGeom prst="cloudCallout">
            <a:avLst>
              <a:gd name="adj1" fmla="val 58412"/>
              <a:gd name="adj2" fmla="val 286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97640" y="304920"/>
            <a:ext cx="179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ush Script Std"/>
              </a:rPr>
              <a:t>I Don’t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ush Script Std"/>
              </a:rPr>
              <a:t>Why I’m Si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ush Script Std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3048120" y="5486400"/>
            <a:ext cx="1218960" cy="1066680"/>
          </a:xfrm>
          <a:custGeom>
            <a:avLst/>
            <a:gdLst>
              <a:gd name="textAreaLeft" fmla="*/ 69120 w 1218960"/>
              <a:gd name="textAreaRight" fmla="*/ 1149840 w 121896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83" h="21600">
                <a:moveTo>
                  <a:pt x="0" y="0"/>
                </a:moveTo>
                <a:lnTo>
                  <a:pt x="24683" y="0"/>
                </a:lnTo>
                <a:lnTo>
                  <a:pt x="24683" y="21600"/>
                </a:lnTo>
                <a:lnTo>
                  <a:pt x="0" y="21600"/>
                </a:lnTo>
                <a:close/>
              </a:path>
              <a:path fill="lightenLess" w="24683" h="21600">
                <a:moveTo>
                  <a:pt x="0" y="0"/>
                </a:moveTo>
                <a:lnTo>
                  <a:pt x="24683" y="0"/>
                </a:lnTo>
                <a:lnTo>
                  <a:pt x="23283" y="1400"/>
                </a:lnTo>
                <a:lnTo>
                  <a:pt x="1400" y="1400"/>
                </a:lnTo>
                <a:close/>
              </a:path>
              <a:path fill="darken" w="24683" h="21600">
                <a:moveTo>
                  <a:pt x="24683" y="0"/>
                </a:moveTo>
                <a:lnTo>
                  <a:pt x="24683" y="21600"/>
                </a:lnTo>
                <a:lnTo>
                  <a:pt x="23283" y="20200"/>
                </a:lnTo>
                <a:lnTo>
                  <a:pt x="23283" y="1400"/>
                </a:lnTo>
                <a:close/>
              </a:path>
              <a:path fill="darkenLess" w="24683" h="21600">
                <a:moveTo>
                  <a:pt x="24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3" y="20200"/>
                </a:lnTo>
                <a:close/>
              </a:path>
              <a:path fill="lighten" w="24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3" h="21600">
                <a:moveTo>
                  <a:pt x="5335" y="3794"/>
                </a:moveTo>
                <a:lnTo>
                  <a:pt x="19348" y="10800"/>
                </a:lnTo>
                <a:lnTo>
                  <a:pt x="5335" y="1780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752480" y="1371600"/>
            <a:ext cx="5715000" cy="4114800"/>
          </a:xfrm>
          <a:prstGeom prst="rect">
            <a:avLst/>
          </a:prstGeom>
          <a:ln w="206280">
            <a:solidFill>
              <a:srgbClr val="33cc33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5334120" y="1447920"/>
            <a:ext cx="1828800" cy="761760"/>
          </a:xfrm>
          <a:prstGeom prst="wedgeRoundRectCallout">
            <a:avLst>
              <a:gd name="adj1" fmla="val -80902"/>
              <a:gd name="adj2" fmla="val 14458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1880" y="158256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ush Script Std"/>
              </a:rPr>
              <a:t>Woo Hoo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457200" y="5638680"/>
            <a:ext cx="990720" cy="106704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067040"/>
              <a:gd name="textAreaBottom" fmla="*/ 1002960 h 1067040"/>
            </a:gdLst>
            <a:ahLst/>
            <a:rect l="textAreaLeft" t="textAreaTop" r="textAreaRight" b="textAreaBottom"/>
            <a:pathLst>
              <a:path w="21600" h="23263">
                <a:moveTo>
                  <a:pt x="0" y="0"/>
                </a:moveTo>
                <a:lnTo>
                  <a:pt x="21600" y="0"/>
                </a:lnTo>
                <a:lnTo>
                  <a:pt x="21600" y="23263"/>
                </a:lnTo>
                <a:lnTo>
                  <a:pt x="0" y="23263"/>
                </a:lnTo>
                <a:close/>
              </a:path>
              <a:path fill="lightenLess" w="21600" h="232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63">
                <a:moveTo>
                  <a:pt x="21600" y="0"/>
                </a:moveTo>
                <a:lnTo>
                  <a:pt x="21600" y="23263"/>
                </a:lnTo>
                <a:lnTo>
                  <a:pt x="20200" y="21863"/>
                </a:lnTo>
                <a:lnTo>
                  <a:pt x="20200" y="1400"/>
                </a:lnTo>
                <a:close/>
              </a:path>
              <a:path fill="darkenLess" w="21600" h="23263">
                <a:moveTo>
                  <a:pt x="21600" y="23263"/>
                </a:moveTo>
                <a:lnTo>
                  <a:pt x="0" y="23263"/>
                </a:lnTo>
                <a:lnTo>
                  <a:pt x="1400" y="21863"/>
                </a:lnTo>
                <a:lnTo>
                  <a:pt x="20200" y="21863"/>
                </a:lnTo>
                <a:close/>
              </a:path>
              <a:path fill="lighten" w="21600" h="23263">
                <a:moveTo>
                  <a:pt x="0" y="232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63"/>
                </a:lnTo>
                <a:close/>
              </a:path>
              <a:path fill="darken" w="21600" h="23263">
                <a:moveTo>
                  <a:pt x="7301" y="11632"/>
                </a:moveTo>
                <a:lnTo>
                  <a:pt x="17806" y="4625"/>
                </a:lnTo>
                <a:lnTo>
                  <a:pt x="17806" y="18638"/>
                </a:lnTo>
                <a:close/>
              </a:path>
              <a:path fill="darken" w="21600" h="23263">
                <a:moveTo>
                  <a:pt x="3794" y="4625"/>
                </a:moveTo>
                <a:lnTo>
                  <a:pt x="5456" y="4625"/>
                </a:lnTo>
                <a:lnTo>
                  <a:pt x="5456" y="18638"/>
                </a:lnTo>
                <a:lnTo>
                  <a:pt x="3794" y="18638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5:22:09Z</dcterms:created>
  <dc:creator>809277</dc:creator>
  <dc:description/>
  <dc:language>en-US</dc:language>
  <cp:lastModifiedBy>809277</cp:lastModifiedBy>
  <dcterms:modified xsi:type="dcterms:W3CDTF">2009-03-30T16:07:25Z</dcterms:modified>
  <cp:revision>3</cp:revision>
  <dc:subject/>
  <dc:title>Slide 1</dc:title>
</cp:coreProperties>
</file>